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0.wmf" ContentType="image/x-wmf"/>
  <Override PartName="/ppt/media/image34.jpeg" ContentType="image/jpeg"/>
  <Override PartName="/ppt/media/image33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39.jpeg" ContentType="image/jpe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40A-86F2-469B-B05B-0718B6C46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C7C-9B96-4769-AAA6-FA27E3E6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6F68-FEAC-4EEB-8663-26174761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671-132F-464E-A8A8-637E969D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FE11-F0E0-4E6E-BB79-3DE23EEE4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85A-18B5-4D01-ABF3-8165D3D32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4CD2-9AF3-4346-87B3-CEBAA09C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00E5-E6BF-42BE-922B-930FDBAF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D0B-FD73-4357-9150-1E337D56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764E-9066-4763-8FAC-69F308FD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2AB-040D-4E8F-AEA9-1B2E58FE1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B91-0F78-435E-9054-86FD766E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206-DC73-4222-A0DF-C7361CAA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0200-1981-4F86-AE52-43592333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A8B7-8A30-4FF5-9762-0B7FCF48A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18F-24EF-4A8E-A65A-DEA31BF3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8E69-AEA7-4EE4-836B-FF368C84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F7A7-5353-48EA-857B-62FA584B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6A6C-2CDB-4662-8A84-FF185379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28E-F5FB-469C-AE8A-E787C5E05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5627-E5F7-4395-8CB1-FD971E07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0BC0-EE2C-4DC6-91FC-85C2C88B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9E57-66BF-4A9D-BC15-FB370BB8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69E-C494-41C8-9D3E-BDE4E327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384-4C0F-4686-96B1-8FA1B19F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60E-8010-4ADA-B04D-A0A9C90C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59C-783D-4061-AD8A-FAE65F8F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C0A-0B0C-4AB0-B905-3DC053C7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0EA-51BE-4818-B403-B8695D0C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2B8-C7F4-473A-99ED-B759C8A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E33-B08A-493D-AADF-86E7A47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85F-DC5A-47EB-B50D-91C25D91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AF9-9848-42CD-8A4D-394FBFB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8EE-2562-4E3C-9120-831F7E9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70D-181C-4451-A4BA-F5A5F799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1F7-1C43-4B50-8CA2-94400F1F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C412-564F-4D45-A1B0-74A9495D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TL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WISH LI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beatle"/>
          <p:cNvPicPr/>
          <p:nvPr/>
        </p:nvPicPr>
        <p:blipFill>
          <a:blip r:embed="rId1"/>
          <a:srcRect l="0" t="24173" r="0" b="22414"/>
          <a:stretch/>
        </p:blipFill>
        <p:spPr>
          <a:xfrm>
            <a:off x="457200" y="11430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31909"/>
          <p:cNvPicPr/>
          <p:nvPr/>
        </p:nvPicPr>
        <p:blipFill>
          <a:blip r:embed="rId2"/>
          <a:srcRect l="0" t="16473" r="0" b="14926"/>
          <a:stretch/>
        </p:blipFill>
        <p:spPr>
          <a:xfrm>
            <a:off x="4800600" y="2438280"/>
            <a:ext cx="3657600" cy="218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2"/>
          <p:cNvSpPr/>
          <p:nvPr/>
        </p:nvSpPr>
        <p:spPr>
          <a:xfrm>
            <a:off x="4495680" y="11430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wagen Bea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4,000 = $4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3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85800" y="32767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d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2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0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876920" y="5105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undai 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18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5,0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3" descr="b33059-hyundai-accent"/>
          <p:cNvPicPr/>
          <p:nvPr/>
        </p:nvPicPr>
        <p:blipFill>
          <a:blip r:embed="rId3"/>
          <a:stretch/>
        </p:blipFill>
        <p:spPr>
          <a:xfrm>
            <a:off x="380880" y="4343400"/>
            <a:ext cx="3440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mini_0005"/>
          <p:cNvPicPr/>
          <p:nvPr/>
        </p:nvPicPr>
        <p:blipFill>
          <a:blip r:embed="rId1"/>
          <a:srcRect l="9836" t="17874" r="9836" b="13100"/>
          <a:stretch/>
        </p:blipFill>
        <p:spPr>
          <a:xfrm>
            <a:off x="304920" y="304920"/>
            <a:ext cx="3733560" cy="2133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4495680" y="6858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nver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1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=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04920" y="2819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vrolet Silve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8,000 = $5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Spallone2Big"/>
          <p:cNvPicPr/>
          <p:nvPr/>
        </p:nvPicPr>
        <p:blipFill>
          <a:blip r:embed="rId2"/>
          <a:stretch/>
        </p:blipFill>
        <p:spPr>
          <a:xfrm>
            <a:off x="4495680" y="1981080"/>
            <a:ext cx="3781440" cy="25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Porsche%20Boxster%20S%202005%20-%201024x768"/>
          <p:cNvPicPr/>
          <p:nvPr/>
        </p:nvPicPr>
        <p:blipFill>
          <a:blip r:embed="rId3"/>
          <a:stretch/>
        </p:blipFill>
        <p:spPr>
          <a:xfrm>
            <a:off x="457200" y="4038480"/>
            <a:ext cx="3367080" cy="2524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6"/>
          <p:cNvSpPr/>
          <p:nvPr/>
        </p:nvSpPr>
        <p:spPr>
          <a:xfrm>
            <a:off x="411480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sche Box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0,000 = $9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6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4648320" y="8380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 Town and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7,000 = $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9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5fw"/>
          <p:cNvPicPr/>
          <p:nvPr/>
        </p:nvPicPr>
        <p:blipFill>
          <a:blip r:embed="rId1"/>
          <a:stretch/>
        </p:blipFill>
        <p:spPr>
          <a:xfrm>
            <a:off x="609480" y="304920"/>
            <a:ext cx="3505320" cy="2184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85800" y="32004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year-old Volvo Tur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7,0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326"/>
          <p:cNvPicPr/>
          <p:nvPr/>
        </p:nvPicPr>
        <p:blipFill>
          <a:blip r:embed="rId2"/>
          <a:srcRect l="0" t="11886" r="0" b="20797"/>
          <a:stretch/>
        </p:blipFill>
        <p:spPr>
          <a:xfrm>
            <a:off x="4876920" y="2819520"/>
            <a:ext cx="3552840" cy="1795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4724280" y="52578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smobile Intri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2001_Oldsmobile_Intrigue_P2888"/>
          <p:cNvPicPr/>
          <p:nvPr/>
        </p:nvPicPr>
        <p:blipFill>
          <a:blip r:embed="rId3"/>
          <a:srcRect l="0" t="20369" r="0" b="20369"/>
          <a:stretch/>
        </p:blipFill>
        <p:spPr>
          <a:xfrm>
            <a:off x="762120" y="4876920"/>
            <a:ext cx="308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fury"/>
          <p:cNvPicPr/>
          <p:nvPr/>
        </p:nvPicPr>
        <p:blipFill>
          <a:blip r:embed="rId1"/>
          <a:srcRect l="13975" t="27864" r="22984" b="27864"/>
          <a:stretch/>
        </p:blipFill>
        <p:spPr>
          <a:xfrm>
            <a:off x="304920" y="1522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114800" y="4572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ce of Crap 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,2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used: $700 = 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CC06_ZBDS27_2DA_PRN_APA_XXX_VBX"/>
          <p:cNvPicPr/>
          <p:nvPr/>
        </p:nvPicPr>
        <p:blipFill>
          <a:blip r:embed="rId2"/>
          <a:stretch/>
        </p:blipFill>
        <p:spPr>
          <a:xfrm>
            <a:off x="4800600" y="2362320"/>
            <a:ext cx="3286080" cy="2038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609480" y="30481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dge Vi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6,000 = $2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257800" y="51055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20,000 = $2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Hummer-SUT-001"/>
          <p:cNvPicPr/>
          <p:nvPr/>
        </p:nvPicPr>
        <p:blipFill>
          <a:blip r:embed="rId3"/>
          <a:srcRect l="10530" t="24562" r="11844" b="10528"/>
          <a:stretch/>
        </p:blipFill>
        <p:spPr>
          <a:xfrm>
            <a:off x="685800" y="434340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puma-Bike-Profile"/>
          <p:cNvPicPr/>
          <p:nvPr/>
        </p:nvPicPr>
        <p:blipFill>
          <a:blip r:embed="rId1"/>
          <a:stretch/>
        </p:blipFill>
        <p:spPr>
          <a:xfrm>
            <a:off x="762120" y="380880"/>
            <a:ext cx="2805120" cy="2030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3733920" y="762120"/>
            <a:ext cx="32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00 = $6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y: $200 =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bus%20left%20side%20full"/>
          <p:cNvPicPr/>
          <p:nvPr/>
        </p:nvPicPr>
        <p:blipFill>
          <a:blip r:embed="rId2"/>
          <a:srcRect l="0" t="15150" r="0" b="19394"/>
          <a:stretch/>
        </p:blipFill>
        <p:spPr>
          <a:xfrm>
            <a:off x="3962520" y="251460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1066680" y="30481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tokyo8"/>
          <p:cNvPicPr/>
          <p:nvPr/>
        </p:nvPicPr>
        <p:blipFill>
          <a:blip r:embed="rId3"/>
          <a:stretch/>
        </p:blipFill>
        <p:spPr>
          <a:xfrm>
            <a:off x="990720" y="4648320"/>
            <a:ext cx="2209680" cy="146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335268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6,000 - $2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taxi-1"/>
          <p:cNvPicPr/>
          <p:nvPr/>
        </p:nvPicPr>
        <p:blipFill>
          <a:blip r:embed="rId1"/>
          <a:stretch/>
        </p:blipFill>
        <p:spPr>
          <a:xfrm>
            <a:off x="304920" y="30492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114800" y="4572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5 times a week: $40 to $24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to 20 times a week: $400 to $8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Just_An_Old_Truck"/>
          <p:cNvPicPr/>
          <p:nvPr/>
        </p:nvPicPr>
        <p:blipFill>
          <a:blip r:embed="rId2"/>
          <a:stretch/>
        </p:blipFill>
        <p:spPr>
          <a:xfrm>
            <a:off x="4114800" y="304812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609480" y="41911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5,500 = $2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 Extra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ter on Extras at bott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295280" y="3124080"/>
            <a:ext cx="3962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s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 &amp; Upkeep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horse-sale"/>
          <p:cNvPicPr/>
          <p:nvPr/>
        </p:nvPicPr>
        <p:blipFill>
          <a:blip r:embed="rId1"/>
          <a:stretch/>
        </p:blipFill>
        <p:spPr>
          <a:xfrm>
            <a:off x="5029200" y="2438280"/>
            <a:ext cx="2687760" cy="218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4wheeler"/>
          <p:cNvPicPr/>
          <p:nvPr/>
        </p:nvPicPr>
        <p:blipFill>
          <a:blip r:embed="rId2"/>
          <a:stretch/>
        </p:blipFill>
        <p:spPr>
          <a:xfrm>
            <a:off x="838080" y="838080"/>
            <a:ext cx="2971800" cy="2343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4038480" y="14479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hee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http://tonymccollum.com/wp-content/uploads/2009/07/seadoo-rxp400.jpg"/>
          <p:cNvPicPr/>
          <p:nvPr/>
        </p:nvPicPr>
        <p:blipFill>
          <a:blip r:embed="rId3"/>
          <a:srcRect l="0" t="13327" r="0" b="10000"/>
          <a:stretch/>
        </p:blipFill>
        <p:spPr>
          <a:xfrm>
            <a:off x="914400" y="4343400"/>
            <a:ext cx="3710160" cy="2133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4724280" y="51055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-d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New: $25,000 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2819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b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0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ski%20boat%203"/>
          <p:cNvPicPr/>
          <p:nvPr/>
        </p:nvPicPr>
        <p:blipFill>
          <a:blip r:embed="rId1"/>
          <a:srcRect l="8752" t="33339" r="16252" b="35000"/>
          <a:stretch/>
        </p:blipFill>
        <p:spPr>
          <a:xfrm>
            <a:off x="3809880" y="2514600"/>
            <a:ext cx="4572000" cy="1447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4952880" y="4800600"/>
            <a:ext cx="2743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ow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,800 =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snowmobile-polaris"/>
          <p:cNvPicPr/>
          <p:nvPr/>
        </p:nvPicPr>
        <p:blipFill>
          <a:blip r:embed="rId2"/>
          <a:stretch/>
        </p:blipFill>
        <p:spPr>
          <a:xfrm>
            <a:off x="533520" y="4191120"/>
            <a:ext cx="3324240" cy="2268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http://www.harley-davidson.com/en_US/Media/images/2011-Motorcycles/landing/large/fat-boy.jpg"/>
          <p:cNvPicPr/>
          <p:nvPr/>
        </p:nvPicPr>
        <p:blipFill>
          <a:blip r:embed="rId3"/>
          <a:srcRect l="28712" t="0" r="0" b="28358"/>
          <a:stretch/>
        </p:blipFill>
        <p:spPr>
          <a:xfrm>
            <a:off x="380880" y="228600"/>
            <a:ext cx="3787920" cy="2209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952880" y="533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ley David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0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j0215523"/>
          <p:cNvPicPr/>
          <p:nvPr/>
        </p:nvPicPr>
        <p:blipFill>
          <a:blip r:embed="rId1"/>
          <a:stretch/>
        </p:blipFill>
        <p:spPr>
          <a:xfrm>
            <a:off x="5562720" y="1676520"/>
            <a:ext cx="2485800" cy="1103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j0215522"/>
          <p:cNvPicPr/>
          <p:nvPr/>
        </p:nvPicPr>
        <p:blipFill>
          <a:blip r:embed="rId2"/>
          <a:stretch/>
        </p:blipFill>
        <p:spPr>
          <a:xfrm>
            <a:off x="5715000" y="3048120"/>
            <a:ext cx="2340000" cy="177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838080" y="19051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bare necessities like bread, milk, eg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2120" y="33526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sty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fortable amount, ready to cook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38080" y="48769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urm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ncy foods, high-end, cooked for you and 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3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2" descr="j0233666"/>
          <p:cNvPicPr/>
          <p:nvPr/>
        </p:nvPicPr>
        <p:blipFill>
          <a:blip r:embed="rId3"/>
          <a:stretch/>
        </p:blipFill>
        <p:spPr>
          <a:xfrm>
            <a:off x="5486400" y="5145120"/>
            <a:ext cx="284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828800" y="137160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ics from stores like K-Mart, Wal-Mart, Ross, and the D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38080" y="289548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sual wear like jeans and t-shirts from mid-level stores like Sears, Mervyn’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0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809880" y="502920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its, ties, dresses from high-end stores like Dillard’s Nordstroms, etc. Necessary if you have a professional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7" descr="IS110-012"/>
          <p:cNvPicPr/>
          <p:nvPr/>
        </p:nvPicPr>
        <p:blipFill>
          <a:blip r:embed="rId1"/>
          <a:stretch/>
        </p:blipFill>
        <p:spPr>
          <a:xfrm>
            <a:off x="1981080" y="4572000"/>
            <a:ext cx="134640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TY_18"/>
          <p:cNvPicPr/>
          <p:nvPr/>
        </p:nvPicPr>
        <p:blipFill>
          <a:blip r:embed="rId2"/>
          <a:stretch/>
        </p:blipFill>
        <p:spPr>
          <a:xfrm>
            <a:off x="4724280" y="2895480"/>
            <a:ext cx="1508400" cy="2095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http://www.deseretnews.com/photos/midres/1693084.jpg"/>
          <p:cNvPicPr/>
          <p:nvPr/>
        </p:nvPicPr>
        <p:blipFill>
          <a:blip r:embed="rId3"/>
          <a:stretch/>
        </p:blipFill>
        <p:spPr>
          <a:xfrm>
            <a:off x="6019920" y="762120"/>
            <a:ext cx="2819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other"/>
              </a:rPr>
              <a:t>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800600" y="838080"/>
            <a:ext cx="38098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Bedroom Tra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ndition, garden in place, deck, playground, close to major highways. Excellent school in neighborhood. Located in rural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47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8600" y="3733920"/>
            <a:ext cx="3733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-bedroom Ramb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uilt on a half-acre lot, gorgeous landscaping. Located 45 minutes from downtown in a rural area, upgraded kitchen, sprinkling system, 2 ½ b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4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6"/>
          <p:cNvSpPr/>
          <p:nvPr/>
        </p:nvSpPr>
        <p:spPr>
          <a:xfrm rot="10618200">
            <a:off x="3595320" y="4354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4038480" y="8380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Primary Photo [click for next photo]"/>
          <p:cNvPicPr/>
          <p:nvPr/>
        </p:nvPicPr>
        <p:blipFill>
          <a:blip r:embed="rId1"/>
          <a:stretch/>
        </p:blipFill>
        <p:spPr>
          <a:xfrm>
            <a:off x="152280" y="6094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Primary Photo [click for next photo]"/>
          <p:cNvPicPr/>
          <p:nvPr/>
        </p:nvPicPr>
        <p:blipFill>
          <a:blip r:embed="rId2"/>
          <a:stretch/>
        </p:blipFill>
        <p:spPr>
          <a:xfrm>
            <a:off x="4267080" y="35053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209680" y="13716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 – 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wikipedia-on-ipod"/>
          <p:cNvPicPr/>
          <p:nvPr/>
        </p:nvPicPr>
        <p:blipFill>
          <a:blip r:embed="rId1"/>
          <a:srcRect l="7999" t="0" r="9335" b="0"/>
          <a:stretch/>
        </p:blipFill>
        <p:spPr>
          <a:xfrm>
            <a:off x="152280" y="3429000"/>
            <a:ext cx="2362320" cy="2857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9"/>
          <p:cNvSpPr/>
          <p:nvPr/>
        </p:nvSpPr>
        <p:spPr>
          <a:xfrm>
            <a:off x="2514600" y="3886200"/>
            <a:ext cx="1676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SportsEvent"/>
          <p:cNvPicPr/>
          <p:nvPr/>
        </p:nvPicPr>
        <p:blipFill>
          <a:blip r:embed="rId2"/>
          <a:stretch/>
        </p:blipFill>
        <p:spPr>
          <a:xfrm>
            <a:off x="4419720" y="1371600"/>
            <a:ext cx="1985760" cy="2514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6553080" y="1523880"/>
            <a:ext cx="2286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essional Sports Season Ti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4" descr="united_bowling_2"/>
          <p:cNvPicPr/>
          <p:nvPr/>
        </p:nvPicPr>
        <p:blipFill>
          <a:blip r:embed="rId3"/>
          <a:stretch/>
        </p:blipFill>
        <p:spPr>
          <a:xfrm>
            <a:off x="5486400" y="4267080"/>
            <a:ext cx="2685960" cy="1870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5"/>
          <p:cNvSpPr/>
          <p:nvPr/>
        </p:nvSpPr>
        <p:spPr>
          <a:xfrm>
            <a:off x="3886200" y="51055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w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http://thecollegeskinny.files.wordpress.com/2008/03/966630_543525631.jpg"/>
          <p:cNvPicPr/>
          <p:nvPr/>
        </p:nvPicPr>
        <p:blipFill>
          <a:blip r:embed="rId4"/>
          <a:stretch/>
        </p:blipFill>
        <p:spPr>
          <a:xfrm>
            <a:off x="228600" y="1447920"/>
            <a:ext cx="1986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666880" y="152388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h/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: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: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: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276720" y="4724280"/>
            <a:ext cx="327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DISH_500_ANTENNA"/>
          <p:cNvPicPr/>
          <p:nvPr/>
        </p:nvPicPr>
        <p:blipFill>
          <a:blip r:embed="rId1"/>
          <a:srcRect l="0" t="0" r="0" b="7305"/>
          <a:stretch/>
        </p:blipFill>
        <p:spPr>
          <a:xfrm>
            <a:off x="380880" y="1066680"/>
            <a:ext cx="219420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600x400_gallery_SC_Movie_Theater_1"/>
          <p:cNvPicPr/>
          <p:nvPr/>
        </p:nvPicPr>
        <p:blipFill>
          <a:blip r:embed="rId2"/>
          <a:stretch/>
        </p:blipFill>
        <p:spPr>
          <a:xfrm>
            <a:off x="304920" y="4267080"/>
            <a:ext cx="2933640" cy="1955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Moorings-Restaurant-Kerry"/>
          <p:cNvPicPr/>
          <p:nvPr/>
        </p:nvPicPr>
        <p:blipFill>
          <a:blip r:embed="rId3"/>
          <a:stretch/>
        </p:blipFill>
        <p:spPr>
          <a:xfrm>
            <a:off x="5943600" y="1219320"/>
            <a:ext cx="2919240" cy="1946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5867280" y="32767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ing Out to Eat -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ski_praz_sur_arly"/>
          <p:cNvPicPr/>
          <p:nvPr/>
        </p:nvPicPr>
        <p:blipFill>
          <a:blip r:embed="rId4"/>
          <a:stretch/>
        </p:blipFill>
        <p:spPr>
          <a:xfrm>
            <a:off x="7086600" y="4038480"/>
            <a:ext cx="1652760" cy="248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6"/>
          <p:cNvSpPr/>
          <p:nvPr/>
        </p:nvSpPr>
        <p:spPr>
          <a:xfrm>
            <a:off x="4572000" y="5486400"/>
            <a:ext cx="32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/Snow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son Pass: $1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: $4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657600" y="121932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ly: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Core2DuoPCBanner"/>
          <p:cNvPicPr/>
          <p:nvPr/>
        </p:nvPicPr>
        <p:blipFill>
          <a:blip r:embed="rId1"/>
          <a:srcRect l="30404" t="0" r="0" b="0"/>
          <a:stretch/>
        </p:blipFill>
        <p:spPr>
          <a:xfrm>
            <a:off x="228600" y="1219320"/>
            <a:ext cx="331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xbox-360-vs-sony-ps3-nintendo-revolution"/>
          <p:cNvPicPr/>
          <p:nvPr/>
        </p:nvPicPr>
        <p:blipFill>
          <a:blip r:embed="rId2"/>
          <a:stretch/>
        </p:blipFill>
        <p:spPr>
          <a:xfrm>
            <a:off x="533520" y="3962520"/>
            <a:ext cx="2438280" cy="2357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3048120" y="4343400"/>
            <a:ext cx="3276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ox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5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Games &amp; Controll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1" descr="pets"/>
          <p:cNvPicPr/>
          <p:nvPr/>
        </p:nvPicPr>
        <p:blipFill>
          <a:blip r:embed="rId3"/>
          <a:stretch/>
        </p:blipFill>
        <p:spPr>
          <a:xfrm>
            <a:off x="4343400" y="2743200"/>
            <a:ext cx="2685960" cy="1973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7010280" y="2971800"/>
            <a:ext cx="19051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0 for each additional p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otor_home_MG_1022"/>
          <p:cNvPicPr/>
          <p:nvPr/>
        </p:nvPicPr>
        <p:blipFill>
          <a:blip r:embed="rId1"/>
          <a:stretch/>
        </p:blipFill>
        <p:spPr>
          <a:xfrm>
            <a:off x="685800" y="1295280"/>
            <a:ext cx="2362320" cy="14335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200400" y="14479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5,000 - $600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- $175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pagani-sound-system"/>
          <p:cNvPicPr/>
          <p:nvPr/>
        </p:nvPicPr>
        <p:blipFill>
          <a:blip r:embed="rId2"/>
          <a:stretch/>
        </p:blipFill>
        <p:spPr>
          <a:xfrm>
            <a:off x="609480" y="2895480"/>
            <a:ext cx="2438640" cy="19130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"/>
          <p:cNvSpPr/>
          <p:nvPr/>
        </p:nvSpPr>
        <p:spPr>
          <a:xfrm>
            <a:off x="3200400" y="30481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nt: $1,800 = $80/month/2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unt: $900 = $45/month/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276720" y="495288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00 minutes - $6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, High-end = $1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http://gadgetophilia.com/wp-content/uploads/2009/06/n97iphone.jpg"/>
          <p:cNvPicPr/>
          <p:nvPr/>
        </p:nvPicPr>
        <p:blipFill>
          <a:blip r:embed="rId3"/>
          <a:stretch/>
        </p:blipFill>
        <p:spPr>
          <a:xfrm>
            <a:off x="6553080" y="4419720"/>
            <a:ext cx="22100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4800600" y="533520"/>
            <a:ext cx="380988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xer-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“fixer-upper” in a run-down neighborhood with higher levels of crime and on a busy road. Very close to city. 2 bedrooms, 1 bath, hardwood floors, air-cond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7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57200" y="342900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ie Patoo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e but small three-bedroom house only 20 minutes to city limits in desirable area, close to the University. Built in 1925, needs repairs. Highly valuabl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1,1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1,5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3" descr="Click for details"/>
          <p:cNvPicPr/>
          <p:nvPr/>
        </p:nvPicPr>
        <p:blipFill>
          <a:blip r:embed="rId1"/>
          <a:stretch/>
        </p:blipFill>
        <p:spPr>
          <a:xfrm>
            <a:off x="44956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457200" y="457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4876920" y="38088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ment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studio apartment (one-room) in semi-restored older home. Hot plate and fridge, shared bath, laundry in basement. 20 minutes to downt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$5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52280" y="403848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fortable Mid-Siz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size house in good area. Newly landscaped, close to shopping area. New rock patio in backya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2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5"/>
          <p:cNvSpPr/>
          <p:nvPr/>
        </p:nvSpPr>
        <p:spPr>
          <a:xfrm>
            <a:off x="4114800" y="457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6"/>
          <p:cNvSpPr/>
          <p:nvPr/>
        </p:nvSpPr>
        <p:spPr>
          <a:xfrm rot="10800000">
            <a:off x="4114800" y="3809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http://filelibrary.myaasite.com/Content/9/9870/32031358.JPG"/>
          <p:cNvPicPr/>
          <p:nvPr/>
        </p:nvPicPr>
        <p:blipFill>
          <a:blip r:embed="rId1"/>
          <a:stretch/>
        </p:blipFill>
        <p:spPr>
          <a:xfrm>
            <a:off x="228600" y="380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4876920" y="35798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"/>
          <p:cNvSpPr/>
          <p:nvPr/>
        </p:nvSpPr>
        <p:spPr>
          <a:xfrm>
            <a:off x="4800600" y="533520"/>
            <a:ext cx="3809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ish Executive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stled near the mountains in an exclusive neighborhood, close to ski resorts, and far from the nearest grocery store. 6 bedrooms, 4 ba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6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3,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457200" y="327672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ma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cute, and a little fussy. Located on a busy road in an unpopular area of town. Landscaped, 2 car garage, 4 bedrooms, 2 baths, more than 50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4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5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7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Primary Photo [click for next photo]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4495680" y="3429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4419720" y="380880"/>
            <a:ext cx="388620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ore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ored three-bedroom century home in the heritage district. Original moldings, two working fireplaces, hardwood floors, modernized kitchen and baths. Small yard, needs some repairs. Close to capital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7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0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41360" y="3843360"/>
            <a:ext cx="38862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zy Apartment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bedroom-plus-den high-rise suite. Two bathrooms, located in heart of big city near shopping and entertainment. Skyline view, club room and weight-room facili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1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5"/>
          <p:cNvSpPr/>
          <p:nvPr/>
        </p:nvSpPr>
        <p:spPr>
          <a:xfrm rot="10800000"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8"/>
          <p:cNvSpPr/>
          <p:nvPr/>
        </p:nvSpPr>
        <p:spPr>
          <a:xfrm>
            <a:off x="4114800" y="51814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http://www.dallasluxuryleasing.com/images/Highrises/Dallas_Luxury_Highrise_Apartments_2.jpg"/>
          <p:cNvPicPr/>
          <p:nvPr/>
        </p:nvPicPr>
        <p:blipFill>
          <a:blip r:embed="rId1"/>
          <a:stretch/>
        </p:blipFill>
        <p:spPr>
          <a:xfrm>
            <a:off x="4648320" y="3733920"/>
            <a:ext cx="411948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Primary Photo [click for next photo]"/>
          <p:cNvPicPr/>
          <p:nvPr/>
        </p:nvPicPr>
        <p:blipFill>
          <a:blip r:embed="rId2"/>
          <a:stretch/>
        </p:blipFill>
        <p:spPr>
          <a:xfrm>
            <a:off x="189000" y="401760"/>
            <a:ext cx="37386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6"/>
          <p:cNvSpPr/>
          <p:nvPr/>
        </p:nvSpPr>
        <p:spPr>
          <a:xfrm>
            <a:off x="4419720" y="380880"/>
            <a:ext cx="38862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two-bath end unit in ten-year old subdivision. Five appliances, mature trees, close to school, excellent condition. Pay HOA f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9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2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A Fees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52280" y="373392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2 ½ bath in a renovated midtown duplex. Ten-foot ceilings, no yard, quiet stre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8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Primary Photo [click for next photo]"/>
          <p:cNvPicPr/>
          <p:nvPr/>
        </p:nvPicPr>
        <p:blipFill>
          <a:blip r:embed="rId1"/>
          <a:stretch/>
        </p:blipFill>
        <p:spPr>
          <a:xfrm>
            <a:off x="434340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366840" y="495360"/>
            <a:ext cx="3454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4419720" y="380880"/>
            <a:ext cx="38862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scale 4-Bedro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bedroom, 3 bath, in upscale area. Close to good schools, about 20 minutes from metro area. Shopping nearby, but in a nice neighborhood. Tucked in to a cul-de-sac deep within neighborhood stre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7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52280" y="3733920"/>
            <a:ext cx="38862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 City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bedroom, 2 bath, in less popular part of town. Beautiful home, but a more dangerous neighborhood. On a quiet str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rimary Photo [click for next photo]"/>
          <p:cNvPicPr/>
          <p:nvPr/>
        </p:nvPicPr>
        <p:blipFill>
          <a:blip r:embed="rId1"/>
          <a:stretch/>
        </p:blipFill>
        <p:spPr>
          <a:xfrm>
            <a:off x="4419720" y="33526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Primary Photo [click for next photo]"/>
          <p:cNvPicPr/>
          <p:nvPr/>
        </p:nvPicPr>
        <p:blipFill>
          <a:blip r:embed="rId2"/>
          <a:stretch/>
        </p:blipFill>
        <p:spPr>
          <a:xfrm>
            <a:off x="457200" y="3808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419720" y="228600"/>
            <a:ext cx="38862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size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bedroom walk-up apartment in midtown. Close to shopping, transit, and theaters. Access to community pool, spa,  and workout ro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450/month (live with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850/month (live by your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250/month (share room w/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80880" y="312408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ing at 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parents/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50/week,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419720" y="4672080"/>
            <a:ext cx="3886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Bedroom, 5-bath mansion in private area. Great view, horse property, recent upgrades and remodeling, separate apartment downst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,09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6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7"/>
          <p:cNvSpPr/>
          <p:nvPr/>
        </p:nvSpPr>
        <p:spPr>
          <a:xfrm>
            <a:off x="3962520" y="6858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ight Arrow 8"/>
          <p:cNvSpPr/>
          <p:nvPr/>
        </p:nvSpPr>
        <p:spPr>
          <a:xfrm>
            <a:off x="3886200" y="304812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ight Arrow 9"/>
          <p:cNvSpPr/>
          <p:nvPr/>
        </p:nvSpPr>
        <p:spPr>
          <a:xfrm rot="10800000">
            <a:off x="3962520" y="5105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572000" y="2514600"/>
            <a:ext cx="380988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PAREN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http://www.innovative-companies.com/Images/Pinnacle%20Southtowne%201.jpg"/>
          <p:cNvPicPr/>
          <p:nvPr/>
        </p:nvPicPr>
        <p:blipFill>
          <a:blip r:embed="rId1"/>
          <a:stretch/>
        </p:blipFill>
        <p:spPr>
          <a:xfrm>
            <a:off x="304920" y="152280"/>
            <a:ext cx="354312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Primary Photo [click for next photo]"/>
          <p:cNvPicPr/>
          <p:nvPr/>
        </p:nvPicPr>
        <p:blipFill>
          <a:blip r:embed="rId2"/>
          <a:stretch/>
        </p:blipFill>
        <p:spPr>
          <a:xfrm>
            <a:off x="304920" y="39625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01:32Z</dcterms:created>
  <dc:creator>MNielson</dc:creator>
  <dc:description/>
  <dc:language>en-US</dc:language>
  <cp:lastModifiedBy>Megan Rees</cp:lastModifiedBy>
  <dcterms:modified xsi:type="dcterms:W3CDTF">2013-01-03T14:47:00Z</dcterms:modified>
  <cp:revision>61</cp:revision>
  <dc:subject/>
  <dc:title>TLC</dc:title>
</cp:coreProperties>
</file>